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E7B2-9DCE-425E-A14F-2296851A3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7AD2-721B-4EF5-A3D8-EAE357DE1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BA5F-3B82-48E6-9394-81E718000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EE90-499A-44C2-9E41-E7413E10A2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20DA-AE81-4B18-9974-6A976ED33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D038-CAF6-4F10-8B31-5F2259FE0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4AA3-5E68-452B-B2AE-B9A879F5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225A-920E-4F34-808D-D009FD037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4B79-C257-466C-8641-CF8DB8E14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F762-42E5-4C0E-8922-D513C4747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CD99-9C03-4D16-89D9-8C0BEFC10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BFA4-54A6-4837-B7CA-FD6FAECC0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569-7BE2-48BA-9B21-E32227F2CE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495B-E262-460A-B442-4A8EF3C885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erspectives 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ink about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hout Out …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ds and/or phrases to describe your experience as the teacher or the student in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577-CD91-4C3B-AB88-FEBA4BEE52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E37-54DD-46AA-BAB5-8EE5423CCF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602-9B69-470E-85DA-3C4163091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AA0-3AC3-4650-92FE-187B917268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“responding to students 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8F6-5AAA-49EB-B112-73191D2D90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384-A9DE-4D7B-8940-CF582E43CF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1EE-F6D8-4F1A-AFA3-DE36DDEFF2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130-1B2C-436E-80D8-4FCD979EE0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FCB-5B6F-44B9-9FD3-BB5ECFD972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33F0-B7CF-46BC-BCD1-674325D435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885E-0EE5-41E6-98F8-03352C89A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F9B-1644-44CB-AD88-3F55D9DCBF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now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your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 your Venn Diagram when your group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A554-065F-4847-AFBE-428C367BBC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848A-16F8-4C6C-B9B1-E30E20C641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2D78-322B-4445-A465-64493CE887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C143-16D2-40DD-8A7A-73E3BE53EF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2C46-97F8-4A24-A50F-4CB9513DA7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434-CB44-4C8D-8714-8E1416D143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responding to students in the mo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B5C-7523-438A-A215-5AAE2D5B5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89C-FE13-419D-8891-B41F16C4BD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7-28T20:20:44Z</dcterms:modified>
  <cp:revision>19</cp:revision>
  <dc:subject/>
  <dc:title>&lt;Title&gt;</dc:title>
</cp:coreProperties>
</file>